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6.png" ContentType="image/png"/>
  <Override PartName="/ppt/media/image28.jpeg" ContentType="image/jpeg"/>
  <Override PartName="/ppt/media/image51.jpeg" ContentType="image/jpeg"/>
  <Override PartName="/ppt/media/image44.jpeg" ContentType="image/jpeg"/>
  <Override PartName="/ppt/media/image45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5F43-FE49-4ED0-8E63-8E5B3DB5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4320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DA18-18B9-44EE-A863-4B10B6AF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343A-44DE-45E2-83F3-406EDF27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7E8D-C2D6-456F-B2D7-C5DA3159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35FB-8525-491E-B4EB-B3689EAB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AF57-726B-44AD-9E2C-C95CCC0B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077E-C9E6-4431-8CDE-2FD6AC8C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CE0D-3258-4422-B464-64AF91F8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EB37-6790-4DAC-BA63-C3FF8C02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EB2B-1623-4329-BC31-DA5FFA39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6C42-0FE7-4D04-99FD-C3C1FB8C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36F9-9451-4D9E-98D4-A199ADF5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9488-EEA5-45C1-9E64-2B65FE70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B850-B57F-4557-96EF-4CB78E4B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4320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F824-A184-4B75-AE37-912CD10B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40DE-782A-4830-8B14-054FD1E2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740B-3E6E-457D-B7EC-71113918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44F86-4483-4710-AECA-DCFBE641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BFB3A-CD5D-46DF-A199-42A1DC7A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95BC1-FCD3-4371-9BBF-9D772B88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BFAB3-76E6-4555-B9A4-44C71B2B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C98A0-0CF1-4ABB-9814-AF204B04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1D04-DC76-4E60-BBBB-B9C8C971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2FC9D-2E09-4661-BDE6-C83E8726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FBB68-7007-470D-8A42-4D5A2511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51D31-A93D-4EDE-AD86-163CCF4F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F1794-D12D-4E1D-B342-E746F9FE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4320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A5950-23E2-4AFF-ABC9-0970C30C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42FD6-CEFD-4F11-AB5B-0DEEC4D9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040EE-C7C7-4414-AA9A-23842432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3BBF-2C3B-4363-914A-6C0C6C13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4320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23E1-FFAE-47E5-B502-1EE2E435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4320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F6E8-06AB-423C-B1EF-E0DFFCD0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22594-7789-4649-A8D0-A47EFA6D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802D9-99D3-4F0B-B999-AA27CCF8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319A5-7F26-408E-B7A1-58D5680E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17146-3B77-42F6-B309-7168DC3F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8202E-8972-44BD-ACA5-D613B33A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A6E4A-6D87-4150-BC09-61127F03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F96F4-BC0E-472F-8DE1-682CEDCA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42927-DD3D-40E0-9783-0B44E7A6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D903A-FD7A-465B-8A82-BBB15999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15E-EC23-43FA-B273-74F8F60C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4320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1A24F-900D-4C72-8DEA-D0D0D37D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220C7-B106-446A-89F9-5EA02FF7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366F0-ED5E-4653-80F8-58116D2D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5F08-0FDF-41E0-A581-BACADF83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64320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84404-5B64-477C-BE77-33356AA2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61B80-050F-4B6A-9871-4F8F4EFB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F92FF-55D6-4C94-85AE-871C2BE2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75BBA-CB53-4617-9547-A312FD2E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A9613-4CD9-4292-996D-9A2C2FC4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A663-AEA1-4972-AE30-989F2061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ED734-3E6E-4665-AA11-7D9CBE0F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D3ACB-0EF7-48FB-8D90-8358E216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FEE95-E1D2-450C-8ECC-BCF998BC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27496-E4A5-4510-89FD-100BFDF3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4320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B2802-7365-40DE-BE91-9A571F85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8ED6B-C48A-4C58-865E-2FD4C3A2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F9717-FAB8-4605-9555-00B811A9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8520-6BEA-465B-9EF6-9CDFB419FED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6AB3-44DB-4E4F-B4C9-4D1494501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5105-FDE2-43AB-9FDB-B46D76DFA56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2E25-0932-40E6-AEA6-744896D9DE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8" descr="跑道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2A87-224B-4399-A782-53D57B43A93B}" type="datetime">
              <a:rPr b="0" lang="zh-CN" sz="1200" spc="-1" strike="noStrike">
                <a:solidFill>
                  <a:srgbClr val="898989"/>
                </a:solidFill>
                <a:latin typeface="华文细黑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华文细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华文细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D581-7B03-4238-8E7C-C61811EF4307}" type="slidenum">
              <a:rPr b="0" lang="zh-CN" sz="1200" spc="-1" strike="noStrike">
                <a:solidFill>
                  <a:srgbClr val="898989"/>
                </a:solidFill>
                <a:latin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111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111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DD56-D2E9-4323-B978-9FEE347589F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16EC-AAA4-4546-8350-4588196A3C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68360" y="184428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3"/>
          </p:nvPr>
        </p:nvSpPr>
        <p:spPr>
          <a:xfrm>
            <a:off x="456840" y="61401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AF5A-6D19-4297-AFC8-EE03B7EE2738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4"/>
          </p:nvPr>
        </p:nvSpPr>
        <p:spPr>
          <a:xfrm>
            <a:off x="3124080" y="6140160"/>
            <a:ext cx="289584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1401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4349-A6EC-4C3B-8402-C82D70241CB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0" y="0"/>
          <a:ext cx="9121680" cy="645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21680" cy="64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0" y="6351480"/>
            <a:ext cx="8317080" cy="5241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8317080" y="6353280"/>
            <a:ext cx="828360" cy="52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52e-mail.com/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52e-mail.com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52e-mail.com/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52e-mail.com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grassle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2362320"/>
            <a:ext cx="1737000" cy="38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7" name="Text Box 7"/>
          <p:cNvSpPr/>
          <p:nvPr/>
        </p:nvSpPr>
        <p:spPr>
          <a:xfrm>
            <a:off x="1219320" y="2362320"/>
            <a:ext cx="510516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心理学上有一个著名的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1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瓦伦达效应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1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瓦伦达是</a:t>
            </a:r>
            <a:r>
              <a:rPr b="0" lang="zh-CN" sz="1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美国</a:t>
            </a:r>
            <a:r>
              <a:rPr b="1" lang="zh-CN" sz="1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个著名的高空走钢索的表演者，他在一次重大的表演中，不幸失足身亡。他的妻子事后说，我知道这一次一定要出事，因为他上场前总是不停地说，这次太重要了，不能失败；而以前每次成功的表演，他总想着走钢丝这件事本身，而不去管这件事可能带来的一切。后来，人们就把专注于事情本身、不患得患失的心态，叫做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1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瓦伦达心态。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1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9" descr="图片1"/>
          <p:cNvPicPr/>
          <p:nvPr/>
        </p:nvPicPr>
        <p:blipFill>
          <a:blip r:embed="rId3"/>
          <a:stretch/>
        </p:blipFill>
        <p:spPr>
          <a:xfrm>
            <a:off x="2438280" y="1295280"/>
            <a:ext cx="3594240" cy="7128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13014aq900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3"/>
          <p:cNvSpPr/>
          <p:nvPr/>
        </p:nvSpPr>
        <p:spPr>
          <a:xfrm>
            <a:off x="6553080" y="6400800"/>
            <a:ext cx="2438640" cy="307080"/>
          </a:xfrm>
          <a:prstGeom prst="rect">
            <a:avLst/>
          </a:prstGeom>
          <a:solidFill>
            <a:srgbClr val="1717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52e-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1102a42q4dfb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3"/>
          <p:cNvSpPr/>
          <p:nvPr/>
        </p:nvSpPr>
        <p:spPr>
          <a:xfrm>
            <a:off x="3429000" y="6400800"/>
            <a:ext cx="2286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52e-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1104d60q4dd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3"/>
          <p:cNvSpPr/>
          <p:nvPr/>
        </p:nvSpPr>
        <p:spPr>
          <a:xfrm>
            <a:off x="6629400" y="6400800"/>
            <a:ext cx="2286000" cy="307080"/>
          </a:xfrm>
          <a:prstGeom prst="rect">
            <a:avLst/>
          </a:prstGeom>
          <a:solidFill>
            <a:srgbClr val="b06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52e-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1601414q8fee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3"/>
          <p:cNvSpPr/>
          <p:nvPr/>
        </p:nvSpPr>
        <p:spPr>
          <a:xfrm>
            <a:off x="6629400" y="6400800"/>
            <a:ext cx="22860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52e-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1901f59q8f53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3"/>
          <p:cNvSpPr/>
          <p:nvPr/>
        </p:nvSpPr>
        <p:spPr>
          <a:xfrm>
            <a:off x="6629400" y="6400800"/>
            <a:ext cx="2362320" cy="307080"/>
          </a:xfrm>
          <a:prstGeom prst="rect">
            <a:avLst/>
          </a:prstGeom>
          <a:solidFill>
            <a:srgbClr val="545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52e-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1504448q4e18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3">
            <a:hlinkClick r:id="rId2"/>
          </p:cNvPr>
          <p:cNvSpPr/>
          <p:nvPr/>
        </p:nvSpPr>
        <p:spPr>
          <a:xfrm>
            <a:off x="366840" y="6446880"/>
            <a:ext cx="22860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52e-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1e0224q4e0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3"/>
          <p:cNvSpPr/>
          <p:nvPr/>
        </p:nvSpPr>
        <p:spPr>
          <a:xfrm>
            <a:off x="6705720" y="6477120"/>
            <a:ext cx="2286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52e-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1201f1q901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3"/>
          <p:cNvSpPr/>
          <p:nvPr/>
        </p:nvSpPr>
        <p:spPr>
          <a:xfrm>
            <a:off x="6629400" y="6400800"/>
            <a:ext cx="2286000" cy="307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52e-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1f0474bq4de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3"/>
          <p:cNvSpPr/>
          <p:nvPr/>
        </p:nvSpPr>
        <p:spPr>
          <a:xfrm>
            <a:off x="6705720" y="6400800"/>
            <a:ext cx="2286000" cy="3070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52e-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1d04333q4e0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3"/>
          <p:cNvSpPr/>
          <p:nvPr/>
        </p:nvSpPr>
        <p:spPr>
          <a:xfrm>
            <a:off x="6629400" y="6400800"/>
            <a:ext cx="22860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52e-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1066680" y="990720"/>
            <a:ext cx="61722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  <a:ea typeface="楷体_GB2312"/>
              </a:rPr>
              <a:t>美国斯坦福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楷体_GB2312"/>
              </a:rPr>
              <a:t>大学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  <a:ea typeface="楷体_GB2312"/>
              </a:rPr>
              <a:t>的一项研究表明，人大脑里的某一图像会像实际情况那样刺激人的神经系统。比如当一个高尔夫球手击球前一再告诫自己“不要把球打进水里”时，他的大脑里就会出现“球掉进水里”的情景，而结果往往事与愿违，这时候球大多会掉进水里。这项研究从另一个方面证实了瓦伦达心态。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1f03c41q4d6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3"/>
          <p:cNvSpPr/>
          <p:nvPr/>
        </p:nvSpPr>
        <p:spPr>
          <a:xfrm>
            <a:off x="6629400" y="6400800"/>
            <a:ext cx="22860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52e-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3" descr="1e0172q8fff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4"/>
          <p:cNvSpPr/>
          <p:nvPr/>
        </p:nvSpPr>
        <p:spPr>
          <a:xfrm>
            <a:off x="6629400" y="6477120"/>
            <a:ext cx="2286000" cy="307080"/>
          </a:xfrm>
          <a:prstGeom prst="rect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52e-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1501053q8c5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>
            <a:hlinkClick r:id="rId2"/>
          </p:cNvPr>
          <p:cNvSpPr/>
          <p:nvPr/>
        </p:nvSpPr>
        <p:spPr>
          <a:xfrm>
            <a:off x="6629400" y="6400800"/>
            <a:ext cx="228600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52e-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100483cq4dec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1804854q4e16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3"/>
          <p:cNvSpPr/>
          <p:nvPr/>
        </p:nvSpPr>
        <p:spPr>
          <a:xfrm>
            <a:off x="6629400" y="6400800"/>
            <a:ext cx="2286000" cy="307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52e-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1d03338q4d3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3"/>
          <p:cNvSpPr/>
          <p:nvPr/>
        </p:nvSpPr>
        <p:spPr>
          <a:xfrm>
            <a:off x="6629400" y="6400800"/>
            <a:ext cx="2286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http://www.52e-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1e04e25q4dbd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1d02435q4dd9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1302beq4e0e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4495680" y="6477120"/>
            <a:ext cx="2286000" cy="307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52e-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1402e56q4e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4"/>
          <p:cNvSpPr/>
          <p:nvPr/>
        </p:nvSpPr>
        <p:spPr>
          <a:xfrm>
            <a:off x="3048120" y="1828800"/>
            <a:ext cx="5638680" cy="7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在现实生活中，人们做任何事情，总是想得太多，太在乎事情所带来的后果，太在乎别人的闲言碎语、说三道四，太在乎现在和未来的一切，可我们恰恰忽略了事情本身。我们的大脑成天被各种欲望塞得满满的，身体被压得气喘吁吁的，在这样的重荷下，我们能把事情做好吗？结果我们总是偏离预定的轨道，离成功越来越远！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1c0161aq8fc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"/>
          <p:cNvSpPr/>
          <p:nvPr/>
        </p:nvSpPr>
        <p:spPr>
          <a:xfrm>
            <a:off x="2666880" y="5181480"/>
            <a:ext cx="2286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52e-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150403fq4e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3"/>
          <p:cNvSpPr/>
          <p:nvPr/>
        </p:nvSpPr>
        <p:spPr>
          <a:xfrm>
            <a:off x="4572000" y="6400800"/>
            <a:ext cx="2286000" cy="307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52e-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1d0123bq8fc9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3"/>
          <p:cNvSpPr/>
          <p:nvPr/>
        </p:nvSpPr>
        <p:spPr>
          <a:xfrm>
            <a:off x="6629400" y="6400800"/>
            <a:ext cx="2286000" cy="307080"/>
          </a:xfrm>
          <a:prstGeom prst="rect">
            <a:avLst/>
          </a:prstGeom>
          <a:solidFill>
            <a:srgbClr val="545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52e-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1601139q8fba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3"/>
          <p:cNvSpPr/>
          <p:nvPr/>
        </p:nvSpPr>
        <p:spPr>
          <a:xfrm>
            <a:off x="3728880" y="6454800"/>
            <a:ext cx="2286000" cy="307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52e-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1004860q4dd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3"/>
          <p:cNvSpPr/>
          <p:nvPr/>
        </p:nvSpPr>
        <p:spPr>
          <a:xfrm>
            <a:off x="6629400" y="6400800"/>
            <a:ext cx="2286000" cy="3070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52e-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1d01d6q8ffc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3"/>
          <p:cNvSpPr/>
          <p:nvPr/>
        </p:nvSpPr>
        <p:spPr>
          <a:xfrm>
            <a:off x="6629400" y="6400800"/>
            <a:ext cx="2286000" cy="307080"/>
          </a:xfrm>
          <a:prstGeom prst="rect">
            <a:avLst/>
          </a:prstGeom>
          <a:solidFill>
            <a:srgbClr val="545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52e-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1002a3fq4e1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3"/>
          <p:cNvSpPr/>
          <p:nvPr/>
        </p:nvSpPr>
        <p:spPr>
          <a:xfrm>
            <a:off x="5372280" y="6464160"/>
            <a:ext cx="2286000" cy="307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52e-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1f03f1eq4d7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3"/>
          <p:cNvSpPr/>
          <p:nvPr/>
        </p:nvSpPr>
        <p:spPr>
          <a:xfrm>
            <a:off x="6629400" y="6400800"/>
            <a:ext cx="2286000" cy="307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52e-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1f01b51q8fe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3"/>
          <p:cNvSpPr/>
          <p:nvPr/>
        </p:nvSpPr>
        <p:spPr>
          <a:xfrm>
            <a:off x="5576760" y="6473880"/>
            <a:ext cx="2286000" cy="307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52e-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1a0115bq8c94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1201335q8fe6f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5"/>
          <p:cNvSpPr/>
          <p:nvPr/>
        </p:nvSpPr>
        <p:spPr>
          <a:xfrm>
            <a:off x="6629400" y="6400800"/>
            <a:ext cx="2286000" cy="307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52e-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1c0172cq8f94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1201d23q901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1e03d40q4d57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1402a55q4e3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1c03234q4d7a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1f01220q8fbf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1b04e5fq4dd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4" descr="1303c44q4d7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98160" y="4357800"/>
            <a:ext cx="638676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华文细黑"/>
              </a:rPr>
              <a:t>感谢聆听！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2198520" y="4954320"/>
            <a:ext cx="640080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华文细黑"/>
              </a:rPr>
              <a:t>Thanks for your time</a:t>
            </a:r>
            <a:r>
              <a:rPr b="0" lang="zh-CN" sz="1600" spc="-1" strike="noStrike">
                <a:solidFill>
                  <a:srgbClr val="595959"/>
                </a:solidFill>
                <a:latin typeface="华文细黑"/>
              </a:rPr>
              <a:t>！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1d0183aq8fa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3"/>
          <p:cNvSpPr/>
          <p:nvPr/>
        </p:nvSpPr>
        <p:spPr>
          <a:xfrm>
            <a:off x="6629400" y="6400800"/>
            <a:ext cx="22860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52e-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1502645q4e2d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1402b33q4e11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>
            <a:hlinkClick r:id="rId2"/>
          </p:cNvPr>
          <p:cNvSpPr/>
          <p:nvPr/>
        </p:nvSpPr>
        <p:spPr>
          <a:xfrm>
            <a:off x="6705720" y="6477120"/>
            <a:ext cx="2286000" cy="307080"/>
          </a:xfrm>
          <a:prstGeom prst="rect">
            <a:avLst/>
          </a:prstGeom>
          <a:solidFill>
            <a:srgbClr val="d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52e-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1f0112dq8c9d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1b01610q8ffc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advTm="1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49:16Z</dcterms:modified>
  <cp:revision>10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